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781-AED0-427F-91E0-6986533D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3F1-DB29-41BE-9CC7-F8AECD04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440-EE2D-4F1E-887F-72BE67B2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9A5-2AB0-4DEA-B350-2A67840A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DE5-EC3C-45E4-A6EC-FF863AA3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4A6-94CF-4B6A-88BD-EB652831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046-FF13-4D86-B4BB-5257FDA0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FB6-01BE-454E-811F-CC033AE1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D1D-89B3-448F-8227-272451D8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297-63FC-469C-9D4A-63ACB00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CD2-487E-4473-833F-E03025FB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7EE-8BFE-4E53-8013-041516A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5D46-B957-4C3D-AD14-89383C9DC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3333cc"/>
                </a:solidFill>
                <a:latin typeface="Tahoma"/>
              </a:rPr>
              <a:t>Healthy Marriages and </a:t>
            </a:r>
            <a:br>
              <a:rPr sz="3400"/>
            </a:br>
            <a:r>
              <a:rPr b="0" i="1" lang="en-US" sz="3400" spc="-1" strike="noStrike">
                <a:solidFill>
                  <a:srgbClr val="3333cc"/>
                </a:solidFill>
                <a:latin typeface="Tahoma"/>
              </a:rPr>
              <a:t>Healthy Relationships:  </a:t>
            </a:r>
            <a:br>
              <a:rPr sz="3400"/>
            </a:br>
            <a:r>
              <a:rPr b="0" i="1" lang="en-US" sz="3400" spc="-1" strike="noStrike">
                <a:solidFill>
                  <a:srgbClr val="3333cc"/>
                </a:solidFill>
                <a:latin typeface="Tahoma"/>
              </a:rPr>
              <a:t>Conceptualization and Measurement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stin A. Moore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cinta Bronte-Tinkew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an Jekielek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zanne Ryan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a Guzman, 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ia Redd, MP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nnifer Carrano, BA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ember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T%20logo%20medium" descr=""/>
          <p:cNvPicPr/>
          <p:nvPr/>
        </p:nvPicPr>
        <p:blipFill>
          <a:blip r:embed="rId1"/>
          <a:stretch/>
        </p:blipFill>
        <p:spPr>
          <a:xfrm>
            <a:off x="3352680" y="5715000"/>
            <a:ext cx="22669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hy is it important to distinguish the predictors of healthy marriage from the definition of healthy marri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T%20logo%20medium" descr=""/>
          <p:cNvPicPr/>
          <p:nvPr/>
        </p:nvPicPr>
        <p:blipFill>
          <a:blip r:embed="rId1"/>
          <a:stretch/>
        </p:blipFill>
        <p:spPr>
          <a:xfrm>
            <a:off x="7315200" y="609588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onceptual reason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We are not willing to say that a marriage that lacks certain elements is by definitio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healt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0304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 lack of a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 lack of soci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 lack of religi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The presence of mental health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T%20logo%20medium" descr=""/>
          <p:cNvPicPr/>
          <p:nvPr/>
        </p:nvPicPr>
        <p:blipFill>
          <a:blip r:embed="rId1"/>
          <a:stretch/>
        </p:blipFill>
        <p:spPr>
          <a:xfrm>
            <a:off x="7315200" y="609588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onceptual reason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A healthy marriage is a couple construct, while many of the antecedents are at the individual level, or other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3473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Physical and men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oci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practical reason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To distinguish etiological factors from outcomes helps to build a conceptual model and clarifies potential points of interven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35040" y="1066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tece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30120" y="1066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48000" y="1066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1523880"/>
            <a:ext cx="1904760" cy="550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 contex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macro-level f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1523880"/>
            <a:ext cx="1981440" cy="4648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Healthy Marriag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lationshi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unica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Marital status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nflict/confli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Violenc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Fidelity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eraction/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ogether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imacy/emo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upport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oupl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hildre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(Dur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1523880"/>
            <a:ext cx="1371600" cy="1691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, personal, economic and family outcomes, including pare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3680" y="106668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26040" y="228600"/>
            <a:ext cx="45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asurement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3276720"/>
            <a:ext cx="1904760" cy="550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523880"/>
            <a:ext cx="2209680" cy="4491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mployment,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Ment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Physic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t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ubstance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ocial 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Incarc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Religio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Attitudes and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ren from a pr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relation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Community con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53280" y="1523880"/>
            <a:ext cx="762120" cy="778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well-be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057400"/>
            <a:ext cx="152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10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8288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58128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s with the antecedents of a healthy marriage/relationship, the consequences of a healthy marriage/relationship need to be distinguished from the definition of a healthy marriage/relation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ocial, personal, economic and family outcomes, including parenting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Child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87880" y="10666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ntece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30120" y="1066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7560" y="10666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152388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 contex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macro-level f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523880"/>
            <a:ext cx="1981440" cy="4648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Healthy Marriag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lationshi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unica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Marital status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nflict/confli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Violenc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Fidelity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eraction/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ogether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imacy/emo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upport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oupl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hildre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(Dur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523880"/>
            <a:ext cx="1371600" cy="16916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, personal, economic and family outcomes, including pare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2560" y="10666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6040" y="228600"/>
            <a:ext cx="45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asurement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327672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523880"/>
            <a:ext cx="2209680" cy="4491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mployment,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Ment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Physic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t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ubstance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ocial 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Incarc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Religio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Attitudes and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ren from a pr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relation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Community con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1523880"/>
            <a:ext cx="762120" cy="7786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well-be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057400"/>
            <a:ext cx="152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8288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58128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87880" y="10666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ntece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0800" y="1066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000" y="1066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52388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 contex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macro-level f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523880"/>
            <a:ext cx="1981440" cy="48006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Healthy Marriag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lationshi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Tahoma"/>
              <a:buChar char="-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unica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Marital status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nflict/confli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Violenc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Fidelity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eraction/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ogether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imacy/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emo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upport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oupl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hildre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(Dur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523880"/>
            <a:ext cx="1371600" cy="1691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, personal, economic and family outcomes, including pare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2560" y="10666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26040" y="228600"/>
            <a:ext cx="45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asurement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327672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523880"/>
            <a:ext cx="2209680" cy="4491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mployment,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Ment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Physic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t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ubstance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ocial 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Incarc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Religio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Attitudes and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ren from a pr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relation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Community con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1523880"/>
            <a:ext cx="762120" cy="778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well-be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057400"/>
            <a:ext cx="152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8288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58128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urning now to the definition of a healthy marriage/relationship,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s there a single definition of a healthy marriage or relationsh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7760" y="3916440"/>
            <a:ext cx="50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As our task is defined,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definition of a healthy marriage or relationship varies across family structure sub-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1720" indent="-3510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The presence of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01720" indent="-3510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Family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re are many possible moderators.  For our work, the critical moderators or sub-group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ur project focuses primarily on couples with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Goal: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To create a scale or index that measures a healthy marriage or relationship for use in intervention evalu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457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re are Multiple Types of Famil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280" y="1620720"/>
          <a:ext cx="8763120" cy="4678560"/>
        </p:xfrm>
        <a:graphic>
          <a:graphicData uri="http://schemas.openxmlformats.org/drawingml/2006/table">
            <a:tbl>
              <a:tblPr/>
              <a:tblGrid>
                <a:gridCol w="1295640"/>
                <a:gridCol w="1371600"/>
                <a:gridCol w="1676160"/>
                <a:gridCol w="1371600"/>
                <a:gridCol w="1067040"/>
                <a:gridCol w="19810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w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sident Biological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married or Cohabitating Couples with Step-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 Estranged Cou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Visiting Couples Who Are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nstitutionalized Pop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prison, milit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411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nd Multip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371600"/>
          <a:ext cx="8763120" cy="4910040"/>
        </p:xfrm>
        <a:graphic>
          <a:graphicData uri="http://schemas.openxmlformats.org/drawingml/2006/table">
            <a:tbl>
              <a:tblPr/>
              <a:tblGrid>
                <a:gridCol w="3581640"/>
                <a:gridCol w="990360"/>
                <a:gridCol w="838440"/>
                <a:gridCol w="1066680"/>
                <a:gridCol w="1219320"/>
                <a:gridCol w="1066680"/>
              </a:tblGrid>
              <a:tr h="2919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Satisf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Marital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Vi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Fide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eraction/Time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imacy/Emotion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nflict/Conflict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ou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(Dur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4255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ahoma"/>
              </a:rPr>
              <a:t>Family Structure Types and Components of Healthy Marriage </a:t>
            </a:r>
            <a:r>
              <a:rPr b="0" lang="en-US" sz="21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33cc"/>
                </a:solidFill>
                <a:latin typeface="Tahoma"/>
              </a:rPr>
              <a:t> A Gr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447920"/>
          <a:ext cx="8763120" cy="4719600"/>
        </p:xfrm>
        <a:graphic>
          <a:graphicData uri="http://schemas.openxmlformats.org/drawingml/2006/table">
            <a:tbl>
              <a:tblPr/>
              <a:tblGrid>
                <a:gridCol w="2743200"/>
                <a:gridCol w="1219320"/>
                <a:gridCol w="1143000"/>
                <a:gridCol w="1044360"/>
                <a:gridCol w="1152720"/>
                <a:gridCol w="1460520"/>
              </a:tblGrid>
              <a:tr h="2919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pon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sident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wo Resident Biological Par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married or Cohabitating Couples with Step-childr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 Estranged Coup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Visiting Couples Who Are Par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nstitutionalized Popul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prison, military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Satisf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unic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Marital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Viol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Fide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eraction/Time Togeth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imacy/Emotional Sup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nflict/Conflict Resolu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oup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hildr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(Duratio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Total =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143000"/>
            <a:ext cx="815328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How do we sum the compon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Do different components of a healthy marriage carry greater weigh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What metric do we u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Do we define cut points for a healthy, unhealthy, or “good enough” marriage relation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An “unhealthy marriage/relationship” could be defined (violence, infidelity), but “healthy”….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For now, we seek an ordinal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82240" y="30492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Questions to be Address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ahoma"/>
              </a:rPr>
              <a:t>Should a healthy marriage be measured at the level of the individual, the couple, or both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440" y="27428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Tahoma"/>
              </a:rPr>
              <a:t>- Blaine Fowers’ conceptual and empirical work critiques current relationship quality measures for their extensive emphasis on individualism and personal happ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 healthy marriage or relationship, is largely a couple construct, but includes self/other report items from and about individuals , and can be assessed with observational measures a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Next Step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Identify and develop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Absorb and respond to comments and 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2600" y="0"/>
          <a:ext cx="913608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0"/>
                    <a:ext cx="913608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429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www.childtrend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4495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www.childtrendsdatabank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CTlogo" descr=""/>
          <p:cNvPicPr/>
          <p:nvPr/>
        </p:nvPicPr>
        <p:blipFill>
          <a:blip r:embed="rId3"/>
          <a:stretch/>
        </p:blipFill>
        <p:spPr>
          <a:xfrm>
            <a:off x="1447920" y="685800"/>
            <a:ext cx="617220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hat is a “healthy marriage” or a “healthy relationship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ith funding from the Administration for Children and Families and the NICHD Family and Child Wellbeing Research Network, Child Trends ha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ild Trends h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Compiled a compendium of measures of healthy marriage/relationship (available on a 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Commissioned memos from scholars on the measurement of a healthy marriage/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Reviewed the research literature on the conceptualization and measurement of healthy marriages and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ynthesized conclusions and gaps regarding the measurement of a healthy marriage for critical sub-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T%20logo%20medium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44756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nd Child Trends is working 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22093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Examining and developing concrete measures of healthy marriage and relationships for use in intervention evaluations and other research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orking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healthy marriage/relationshi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s a continuum (not a yes/no construct, but a scale or 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Needs to be assessed differently across sub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7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Two resident biological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072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Remarried or cohabitating couples with step-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072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Non-residential estranged co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072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Visiting couples who are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nstitutionalized populations (prison, milit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Has multiple elements, including:</a:t>
            </a:r>
            <a:br>
              <a:rPr sz="32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mmunicatio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Marital status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nflict/conflict resolutio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Violence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Fidelity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nteraction/time together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ntimacy/emotional support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mmitment to the couple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mmitment to the childre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(Duration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049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this continues Working Assump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althy marriage needs to be distinguished from the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predictor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of a healthy marriage or relationship.  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factors can influence a healthy marri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mployment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ducation and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Ment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Physic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Substanc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Family background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Soci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ncarc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ligi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Attitudes an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hildren from a prior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ommunity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T%20logo%20medium" descr=""/>
          <p:cNvPicPr/>
          <p:nvPr/>
        </p:nvPicPr>
        <p:blipFill>
          <a:blip r:embed="rId1"/>
          <a:stretch/>
        </p:blipFill>
        <p:spPr>
          <a:xfrm>
            <a:off x="7315200" y="609588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7:42:55Z</dcterms:created>
  <dc:creator>tholland</dc:creator>
  <dc:description/>
  <dc:language>en-US</dc:language>
  <cp:lastModifiedBy>tholland</cp:lastModifiedBy>
  <dcterms:modified xsi:type="dcterms:W3CDTF">2003-10-31T19:16:47Z</dcterms:modified>
  <cp:revision>30</cp:revision>
  <dc:subject/>
  <dc:title>Relationship Quality   Kristin A. Moore, Ph.D. Jacinta Bronte-Tinkew, Ph.D. Susan Jekielek, Ph.D. Suzanne Ryan Lina Guzman Zakia Redd Jennifer Carrano   November, 2003</dc:title>
</cp:coreProperties>
</file>